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88A6-8A56-409B-A6F9-EC17552FA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26D6-7E24-4D6D-949B-BCB489B5A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6BB1-0C51-42EB-8500-78FD620B2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0C1D-01B4-462A-856F-969D075C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FCEB-B9A0-44A7-BCD3-4A51945C3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7254-B138-4D77-91E8-07A623A32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B26E-5E1F-4FAE-B1D1-DF7177831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6B45-397C-4838-B4FA-B375D2D4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5398-A2A9-4E54-A1F6-B72D4A91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0A74-4A01-45BD-9AE7-E3AB4314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E730-DF96-4AF3-9745-4E71191F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81B9C-FB47-483C-B7D1-04805213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5F06-3D83-4B7E-BBE9-D85E7048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27FB-4019-4597-9D0B-399FB970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26D1-B6A3-4CB0-85E8-5AA26C45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31E6-1BB7-4FE0-B6C7-317185FE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76CA-D461-480C-BE27-4FCB5F93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D3E3-8E8C-423E-804A-EF9949F2B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7BC4-959B-4590-B048-F12117E18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C3084-327D-4EA2-B67C-4FCE6513B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72F64-125B-4D54-ACA1-26CEA75B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9C624-0109-41F1-AC00-D46F2C73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B3A45-DEE2-4026-B846-4706A3C1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CD1F0-07CD-41B9-BFBD-8208D655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B888-20C9-46DE-A4E3-BC45D8DC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D9529-3CB8-4744-8A10-F98535F1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D2438-108F-4262-98B9-A756991D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EA999-C55A-40CB-B6FE-32997B36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147D1-4D33-42AB-81A2-B0B493AC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22B3F-4C8F-4247-8AEA-DB82C575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C4608-213E-454D-AD4D-59D456549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23E1D-048C-4994-99BA-761302F4C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CA786-BCD1-4D5F-B550-DD9B87F74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203DD-A480-4125-9FA0-5056F524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6404D-0E92-43DD-B9ED-BF4853B5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4377-862C-4CC9-9645-C7B07677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E131D-A10E-4E1E-A574-7A03A099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375C0-CF27-48DD-9376-1BC5FC03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FD310-268D-4E28-84F3-CF6CCE04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F4839-2A9D-40FE-A2D3-4273E4BC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5E6A3-6A5D-42D9-AA92-FE265237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A63EE-CD4E-4696-BA80-1DFBF27F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CFD7E-42D1-4D7E-B258-DA56D099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C8C7C-07F6-4070-A6FF-CE01A983F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5EA07-2AA0-4E10-976A-C8E9EDFE6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44780-705D-4FC6-AE69-46EB17460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1E00-45B2-4516-A85A-2A157004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BE5D4-497B-4D5A-9211-CA34C6AF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B1781-6415-43E9-BEF2-9B7A7F02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D0200-E392-4A2C-B52C-CB5965D3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BD918-6050-4A4F-B0C4-65112C14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080CE-032E-496C-9CE9-EC55F661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E2948-EF40-4280-8708-95E05990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80C41-2BF0-4EE0-AAF0-5236D291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86D14-F722-460B-9812-70E00369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D54C6-EA05-4106-AD79-CB53D718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1F727-8B6C-4697-8E4B-5E721CFC7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6C2C-472A-4578-997C-86A1B236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20E6D-F7B7-445E-8AF6-0850C4E3C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86A86-D4F0-4FE2-9622-F9BB8B76E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A298D-AA27-430E-B6B7-C8F35A7E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8C047-D8FA-47A4-B21F-82B3F46D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89B8B-B6C6-479A-ACD6-A040587D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846EB-9ACC-4548-B919-AD957C32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11DB4-437C-4868-9994-10C4A8A4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28220-9B23-4E0F-A6BC-92501A4D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38422-2367-4E1A-AB4F-0497A84D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FFA4F-9592-43FC-938A-E5776296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E80C-1BAC-4096-8E59-A53D6F2B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F4240-C07D-436E-B82D-AC330AEA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01A19-F11B-45C4-960A-1695E8485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C6260-B23E-4EBD-AB69-7C8FC318C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36D83-CD6A-41AC-BAA5-A15BA15E3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8C1B9-A5B9-4E16-B47A-4EB897CA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E6585-4B5C-40A6-B1C6-FEE06901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87174-4E6F-47FA-B041-3BC9D5C8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3AA57-6856-4AA3-A4C5-6F87E0D7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AA1F5-12B3-4BA8-A44A-014BA6C9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B8371-58BD-4EFE-B410-EB1AB528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9B66-752F-40B0-99B5-6C628040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1022B-CEA8-4DD8-BF33-5C311508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01DC2-7810-4652-8BDA-28DE592C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04FC9-FE15-4002-A2A7-33C6FEFA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7B2A2-5AA6-4CC1-871F-C85392F14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4B106-A3F4-43F6-BA89-43B5A782A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6846-E181-4E31-B3F5-88DE3E16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1F5D-45D5-4F93-BBC1-54F21B7F5A9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1A3C-9B59-4F7D-B70D-FDD41CA6BDFB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AFE4-4743-4A49-8181-05C1E2D6CFD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AA6A-A584-42F8-9E98-379DDEE5C23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5339-3665-4C4B-8BBA-CE9AC20A8C1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47EB-EEA9-4FF5-9F38-08ABAA056A01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DE14-7F94-4CFE-B850-364406A1642F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689040" y="3048120"/>
            <a:ext cx="8058240" cy="676080"/>
          </a:xfrm>
          <a:prstGeom prst="rect">
            <a:avLst/>
          </a:prstGeom>
          <a:ln w="0">
            <a:noFill/>
          </a:ln>
        </p:spPr>
      </p:pic>
      <p:sp>
        <p:nvSpPr>
          <p:cNvPr id="309" name="Title 1"/>
          <p:cNvSpPr/>
          <p:nvPr/>
        </p:nvSpPr>
        <p:spPr>
          <a:xfrm>
            <a:off x="609480" y="380880"/>
            <a:ext cx="80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8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Title 1" descr=""/>
          <p:cNvPicPr/>
          <p:nvPr/>
        </p:nvPicPr>
        <p:blipFill>
          <a:blip r:embed="rId2"/>
          <a:stretch/>
        </p:blipFill>
        <p:spPr>
          <a:xfrm>
            <a:off x="841320" y="3736800"/>
            <a:ext cx="8058240" cy="908280"/>
          </a:xfrm>
          <a:prstGeom prst="rect">
            <a:avLst/>
          </a:prstGeom>
          <a:ln w="0">
            <a:noFill/>
          </a:ln>
        </p:spPr>
      </p:pic>
      <p:grpSp>
        <p:nvGrpSpPr>
          <p:cNvPr id="311" name="Group 10"/>
          <p:cNvGrpSpPr/>
          <p:nvPr/>
        </p:nvGrpSpPr>
        <p:grpSpPr>
          <a:xfrm>
            <a:off x="1066680" y="5029200"/>
            <a:ext cx="4695840" cy="1528920"/>
            <a:chOff x="1066680" y="5029200"/>
            <a:chExt cx="4695840" cy="1528920"/>
          </a:xfrm>
        </p:grpSpPr>
        <p:pic>
          <p:nvPicPr>
            <p:cNvPr id="312" name="Picture 76" descr="GEF_Brand_Long"/>
            <p:cNvPicPr/>
            <p:nvPr/>
          </p:nvPicPr>
          <p:blipFill>
            <a:blip r:embed="rId3"/>
            <a:stretch/>
          </p:blipFill>
          <p:spPr>
            <a:xfrm>
              <a:off x="1066680" y="5105160"/>
              <a:ext cx="2529360" cy="14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3" descr=""/>
            <p:cNvPicPr/>
            <p:nvPr/>
          </p:nvPicPr>
          <p:blipFill>
            <a:blip r:embed="rId4"/>
            <a:stretch/>
          </p:blipFill>
          <p:spPr>
            <a:xfrm>
              <a:off x="4618800" y="5029200"/>
              <a:ext cx="1143720" cy="15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4" name="Picture 4" descr=""/>
          <p:cNvPicPr/>
          <p:nvPr/>
        </p:nvPicPr>
        <p:blipFill>
          <a:blip r:embed="rId5"/>
          <a:stretch/>
        </p:blipFill>
        <p:spPr>
          <a:xfrm>
            <a:off x="3733920" y="5105520"/>
            <a:ext cx="761760" cy="14475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UNWTO_e"/>
          <p:cNvPicPr/>
          <p:nvPr/>
        </p:nvPicPr>
        <p:blipFill>
          <a:blip r:embed="rId6"/>
          <a:stretch/>
        </p:blipFill>
        <p:spPr>
          <a:xfrm>
            <a:off x="5943600" y="5029200"/>
            <a:ext cx="2362320" cy="15238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"/>
          <p:cNvPicPr/>
          <p:nvPr/>
        </p:nvPicPr>
        <p:blipFill>
          <a:blip r:embed="rId7"/>
          <a:stretch/>
        </p:blipFill>
        <p:spPr>
          <a:xfrm>
            <a:off x="990720" y="228600"/>
            <a:ext cx="7162560" cy="2286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Fields surveys involving foot traffic count and catchment study to 3 in-demand/potential areas for eco-tourism enterprise establishment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57200" y="609120"/>
            <a:ext cx="8229600" cy="58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entury Gothic"/>
              </a:rPr>
              <a:t>Results achieved so far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wareness in the three villages and 6 schools on the Project and tourism potential in their village has been raise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ositive reception of the project by the communit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rmulation of 6 Ecotourism clubs in 6 primary school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25 handcrafts have bee trained on Product improvement and business skil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Improvement of local food delivery services to tourist and visitor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53352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Improvement in Seaweed farming and fish processing practices (Processes and Business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Learning of Best practices on cultural tourism enterprise in Arusha (12 people benefited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26 tour guides are trained on basic environmental education to improve their working skill with environmental concern (Tour guides trainee formulated their club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Improvement of Public-Private Partnership in tourism industry . Bagamoyo DC&amp;TC,TCMP, tourist companies and Hotels.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Recruitment of Tourism Officer in Bagamoyo. 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Promotion of tourist attractions through Participation in a local tourism event (Karibu Travel tourism Fair-Arusha);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Aproximatelly15 acres of mangroves were replanted within project area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Establishment of 2 cultural tourism enterprise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21 people have been trained on Management of  business skills on tourism activities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57200" y="53352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entury Gothic"/>
              </a:rPr>
              <a:t>Challenges encountered during implementation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Large interested community to be trained with limited funds to suppor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Most of the challenges are internal which we are supposed to deal with ourselves (Bureaucratic procedures to handle request, transport facilities;  etc)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57200" y="68544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Recommendations for further activities to help increase socio-economic benefits from tourism in coastal destinations in the country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xtension of the project time frame will  bring more positive impacts to the communit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p scaling of the project to other villages for widespread positive impact to the communit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ore training is needed to unveil the tourism potentials in the are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1680" cy="18097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Other stakeholders are needed to complement on capacitating people with resources (Loans, grants) to run small tourism busines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More funds to facilitate the established cultural tourism enterprise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Identification of new tourist product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384120" y="689040"/>
            <a:ext cx="8229600" cy="192096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10"/>
          <p:cNvGrpSpPr/>
          <p:nvPr/>
        </p:nvGrpSpPr>
        <p:grpSpPr>
          <a:xfrm>
            <a:off x="1066680" y="5029200"/>
            <a:ext cx="4695840" cy="1528920"/>
            <a:chOff x="1066680" y="5029200"/>
            <a:chExt cx="4695840" cy="1528920"/>
          </a:xfrm>
        </p:grpSpPr>
        <p:pic>
          <p:nvPicPr>
            <p:cNvPr id="338" name="Picture 76" descr="GEF_Brand_Long"/>
            <p:cNvPicPr/>
            <p:nvPr/>
          </p:nvPicPr>
          <p:blipFill>
            <a:blip r:embed="rId2"/>
            <a:stretch/>
          </p:blipFill>
          <p:spPr>
            <a:xfrm>
              <a:off x="1066680" y="5105160"/>
              <a:ext cx="2529360" cy="14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3" descr=""/>
            <p:cNvPicPr/>
            <p:nvPr/>
          </p:nvPicPr>
          <p:blipFill>
            <a:blip r:embed="rId3"/>
            <a:stretch/>
          </p:blipFill>
          <p:spPr>
            <a:xfrm>
              <a:off x="4618800" y="5029200"/>
              <a:ext cx="1143720" cy="15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0" name="Picture 4" descr=""/>
          <p:cNvPicPr/>
          <p:nvPr/>
        </p:nvPicPr>
        <p:blipFill>
          <a:blip r:embed="rId4"/>
          <a:stretch/>
        </p:blipFill>
        <p:spPr>
          <a:xfrm>
            <a:off x="3733920" y="5105520"/>
            <a:ext cx="761760" cy="14475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UNWTO_e"/>
          <p:cNvPicPr/>
          <p:nvPr/>
        </p:nvPicPr>
        <p:blipFill>
          <a:blip r:embed="rId5"/>
          <a:stretch/>
        </p:blipFill>
        <p:spPr>
          <a:xfrm>
            <a:off x="5943600" y="5029200"/>
            <a:ext cx="2362320" cy="15238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5698"/>
                </a:solidFill>
                <a:latin typeface="Century Gothic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The name of the project is SUSTAINABLE ECOTOURISM ENHANCEMENT FOR POVERTY ALLEVIATION AND BIODIVERSITY CONSERVATION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Century Gothic"/>
              </a:rPr>
              <a:t>The project is implemented in Bagamoyo Demosite at </a:t>
            </a:r>
            <a:r>
              <a:rPr b="1" lang="en-ZA" sz="3000" spc="-1" strike="noStrike">
                <a:solidFill>
                  <a:srgbClr val="000000"/>
                </a:solidFill>
                <a:latin typeface="Century Gothic"/>
              </a:rPr>
              <a:t>Dunda, Kaole and Mlingotini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457200"/>
            <a:ext cx="8229600" cy="59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Total Budget from COAST </a:t>
            </a: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:USD 50,000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The Project is Implemented by </a:t>
            </a: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Bagamoyo District Counci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698"/>
                </a:solidFill>
                <a:latin typeface="Century Gothic"/>
              </a:rPr>
              <a:t>PROJECT OBJECTIV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Capacity building for local communities in sustainable marine &amp; coastal resource management for income Generation and improvement of livelihood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0880" y="3045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PROJECT ACTIVITIES IN BRIEF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wareness campaigns in the project area (Kaole, Dunda, Mlingotini) involving members of the community  and other ecotourism stakeholders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ailor made trainings/skills development for tourism stakeholder groups (tour guides, handicraft producers, boat operators, food vendors /homestay providers, local performance entertainment groups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380880"/>
            <a:ext cx="8229600" cy="607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Setting up of tourist information office,  promotional material development (brochures/flyers/website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Promotion and marketing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Support to environmental protection / conservation initiatives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Facilitation of establishment of tourism stakeholder dialogue forum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 </a:t>
            </a: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PROJECT EXPECTED OUTPU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community awareness on the potential of tourism and biodiversity conservation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0880" y="456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income generation from activities and enhanced local entrepreneurship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mproved service delivery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tourist arrivals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mproved beach and marine environment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tourism stakeholders</a:t>
            </a:r>
            <a:r>
              <a:rPr b="0" lang="ja-JP" sz="2800" spc="-1" strike="noStrike">
                <a:solidFill>
                  <a:srgbClr val="000000"/>
                </a:solidFill>
                <a:latin typeface="Century Gothic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collaboration (between District authority, local communities, private sector and NGOs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6091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698"/>
                </a:solidFill>
                <a:latin typeface="Century Gothic"/>
              </a:rPr>
              <a:t>PROJECT CURRENT STATUS AND OUTPUT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ducation and awareness workshops at the project area (Dunda, Kaole and Mlingotini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ducation and awareness campaigns at schools in the project are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for handcraft groups in quality improvemen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in improvement in accommodation, hospitality, food safety, food provision servic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57200" y="609120"/>
            <a:ext cx="8229600" cy="58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Workshop in marine products improvements &amp; hygiene, fishing/seaweed farming group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ourism enterprise coordinators’ cross learning visit to CTP enterpris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in guiding, basic environmental education and interpretive skills for 12 guid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ake and place sign board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ssessment of areas for mangroves replanting with community members, community resource mapp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obilization of people and plant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195120" y="23184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Participation in a local tourism event (Karibu Travel tourism Fair-Arusha)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Management business skills training for tourism enterprise coordinators, cultural tour coordinators, food/home-stay providers, curio sellers, fishermen groups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Development of brochures for promoting tourism in Bagamoyo.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7T04:07:45Z</dcterms:created>
  <dc:creator>user</dc:creator>
  <dc:description/>
  <dc:language>en-US</dc:language>
  <cp:lastModifiedBy>UNWTO</cp:lastModifiedBy>
  <dcterms:modified xsi:type="dcterms:W3CDTF">2013-09-25T06:07:40Z</dcterms:modified>
  <cp:revision>92</cp:revision>
  <dc:subject/>
  <dc:title>Slide 1</dc:title>
</cp:coreProperties>
</file>